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704-CE46-462F-8FA1-985932D6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C8E-B5D7-4605-96C6-8B7F6AF7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263-3DC7-495C-8205-104F12BA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C8F-98FB-4229-A42C-B066A26B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5EA8-6068-4611-B3B1-104A73A7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CB00-56B8-44A2-AAA3-9688B902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5F1A-F912-4890-8C6D-40BB2BDB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920E-2E4C-403A-BECB-915F0AFA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9D35-F5D2-42F3-9147-2457BCD7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5E06-D035-4BBB-A736-AC931D42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4714-251E-4900-9A38-966FB60B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8A1-B90C-4A52-8AFC-898F920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37B5-4E4E-4143-B2CD-031F55E2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50AB-D78E-4A01-93A5-B579D9E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CAEA-3414-4B0A-ABC9-F2C396BB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4311-8587-4EF7-B519-3F65E8A1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66E6-1079-45E8-ADBB-86AB57CC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B80-E355-419C-A7EF-64FCEFEA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259-5C62-4001-A28F-FE5E9737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D9B-BD6D-4B0B-9C9D-FE98CBFE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CD6-0156-4822-A803-FCD41DC1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1B9-A25D-48C5-AF83-E765B22D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7BE-8952-40AE-91C4-EE4A8B3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000-0836-4CC8-9652-E9A8A3B8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6767-83BA-4323-A025-0CED57548B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C81C-549E-4C13-AEAA-5DA0CA47B1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Area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rm-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-tes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SSA Formula She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-D figures – Square, parallelogram, rectangle, triangle, trapezoid, circle, and regular &amp; irregular polyg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w do you find area of a figure that doesn’t have a formula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eck-up – Perimeter, Circumference and Are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ndout of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sson Practice: Perimeter, Circumference, &amp;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lculating Surface 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formulas – cube, rectangular prism, sphere, &amp; cylinder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Formula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d area of each face and add to find the total surface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unit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is used for Surface Area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Are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each shape that makes up a 3-D soli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much exposed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rea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a solid object h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swer: Square un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867280" y="39625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eck-up – Surface 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ndout of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sson Practice – Surface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bic Uni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ume: how much three-dimensional (3-D) space a solid occupi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o we call it “Cubic”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429000"/>
            <a:ext cx="1214640" cy="12142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447920" y="5410080"/>
            <a:ext cx="853920" cy="1014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780840" cy="965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200400" y="5410080"/>
            <a:ext cx="946080" cy="959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334120" y="45720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952880" y="3048120"/>
            <a:ext cx="37800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olume Formu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SSA Formula she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sm, Cone, Pyramid, cylinder (many types), &amp; sphe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eck-up - Volu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ndout of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sson Practice - Volu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Practice – if you need it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suring Aro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happened when Orgo tore up a PUZZLE Boo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rface Area of Rectangular Pris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ing Volu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icket out the Do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st-Test – same as Pre-test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rimeter, Area, Volume and Surface Are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of vocabulary and form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 the definitions of perimeter, area, volume and surface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derstand units, square units, and cubic units and how they relate to perimeter, area and volu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formulas to calculate perimeter, area, volume, and surface are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ll the 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ll the dice and define the geometry vocabulary word next to your numb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24480" y="335268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1817640" cy="1508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410080" y="5105520"/>
            <a:ext cx="1830600" cy="113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324480" y="533520"/>
            <a:ext cx="1798920" cy="97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124080" y="2971800"/>
            <a:ext cx="25369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ce Roll Number Mat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. Circ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2. Cub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3. Pr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4. C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5. Pyram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6. Cylin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7. Triang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8. Trapezo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9. Rectang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0. Sphe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889280" y="5746680"/>
            <a:ext cx="30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752480"/>
            <a:ext cx="396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Circum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Pe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 Surfac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.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. Cub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. Square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8.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. Rad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. Di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sure of the distance around a figure (polygon) made up of straight lines cal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sides (s, or l &amp; w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, triangle, rectangle, trapezoid, etc. or an irregular 2-D (flat) multi-sided shap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rcle Perimete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the shape has curved lines instead of straight we call i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ircumferen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radius (r)- distance from the center to the edge of the circ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ameter (d) – distance across the circle passing through the cen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 = 2r or r = ½ 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i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ard or metr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surement of the side or d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imeter and circum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248520" y="3429000"/>
            <a:ext cx="1831680" cy="104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81080" y="3352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quare uni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– measure of a shape’s (2-D Flat figures) surface, space inside the perime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o we call it “square”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620120" y="4419720"/>
            <a:ext cx="1279440" cy="90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4267080"/>
            <a:ext cx="942840" cy="1236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523880" y="4343400"/>
            <a:ext cx="898560" cy="1436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477120" y="304920"/>
            <a:ext cx="1224000" cy="8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572000" y="5715000"/>
            <a:ext cx="1839960" cy="696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4572000" y="380880"/>
            <a:ext cx="1274760" cy="876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6934320" y="5334120"/>
            <a:ext cx="636480" cy="123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33520" y="5791320"/>
            <a:ext cx="1481040" cy="647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8153280" y="228600"/>
            <a:ext cx="696960" cy="1119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2514600" y="5562720"/>
            <a:ext cx="1555920" cy="696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2708400">
            <a:off x="6628680" y="2895480"/>
            <a:ext cx="1214640" cy="1214280"/>
          </a:xfrm>
          <a:prstGeom prst="diamond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916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3200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3:32:14Z</dcterms:created>
  <dc:creator>MCTI</dc:creator>
  <dc:description/>
  <dc:language>en-US</dc:language>
  <cp:lastModifiedBy>MCTI</cp:lastModifiedBy>
  <dcterms:modified xsi:type="dcterms:W3CDTF">2010-01-15T14:45:49Z</dcterms:modified>
  <cp:revision>11</cp:revision>
  <dc:subject/>
  <dc:title>Perimeter, Area, Volume and Surface Area</dc:title>
</cp:coreProperties>
</file>